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image6.png" ContentType="image/png"/>
  <Override PartName="/ppt/media/camera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suction.wav" ContentType="audio/x-wav"/>
  <Override PartName="/ppt/media/image4.wmf" ContentType="image/x-wmf"/>
  <Override PartName="/ppt/media/click.wav" ContentType="audio/x-wav"/>
  <Override PartName="/ppt/media/image5.jpeg" ContentType="image/jpeg"/>
  <Override PartName="/ppt/media/laser.wav" ContentType="audio/x-wav"/>
  <Override PartName="/ppt/media/cashreg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F05-80F9-43F1-BB38-B29B08F7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970-B97C-4272-B297-9935D2E6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197-F07C-4C10-99F9-51817C62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3FC-12D8-4306-BD21-D8C9FB31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31A-9EDF-4CE1-8458-B8F9EBFC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2AA-DC0E-42CE-A2B5-AD192140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AA8-C859-44B7-9457-393D3C2A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CE8-5183-407A-92DE-93A021E6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57F-572F-4A92-8C0E-C2445AB7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677-F858-4C43-81B7-3B68F067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CB7-0AB4-4DD0-8C06-1E256F36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C56-6102-4DB8-8D9C-D7798B1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AB65-3F1E-4D4E-B977-9AD9827AF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4292640"/>
            <a:ext cx="721980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ыполнилнила: Рочева Мария, 231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1125360"/>
            <a:ext cx="7632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пасен ли комариный укус?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0">
    <p:zoom dir="out"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 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давно подметило, что одних людей комары кусают чаще, а других реже. Как это объясн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гательным образом действует запах тела. Особенно привлекают пот, температура тела, выделение углекислого газа, а у людей — также цвет и поверхность одеж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выше у вас температура тела, тем больше вероятность стать комариным об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ктр феромонов, выделяемых человеком,широк и среди них выделяются компоненты, притягивающие и отпугивающие ком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щие вырабатываются в организме всех людей, а вот те, что комаров отпугивают, — только у не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дной из версий, отпугивающие компоненты пахнут для комаров сильнее, чем привлекающие. По другой — люди, которых комары не кусают, просто лишены запахов, привлекающих насеко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56000" y="1268280"/>
            <a:ext cx="2530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  <p:sndAc>
      <p:stSnd>
        <p:snd r:embed="rId1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влияет на активность кома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зависит от метеорологических факторов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воздушного течения (при скорости ветра 2 —3 м/сек летать комары уже не могу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сивность освещения (при солнце комары не летают, искусственные источники света: они не просто привлекают комаров, а удерживают их своим светом в активном состоянии, в ясные ночи, когда приближается полнолуние, комары нападают все время пер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ература: любят средние показатели температуры +15-25,время перед грозой когда в воздухе так знойно и ду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делят на вечерний максимум, ночной минимум, утренний пик, дневным миним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omb dir="vert"/>
    <p:sndAc>
      <p:stSnd>
        <p:snd r:embed="rId1" name="suctio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тличить малярийн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ра от немалярий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ярий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сидящего на стене комара брюшко косо приподнято, голова с хоботком, грудь и брюшко — находится на одной прямой линии, образующей с основанием острый угол. Обе стороны угла соединены второй парой ног, и получается в общем намек на букву А. Осторожно, анофел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чинки держатся на поверхности воды в горизонтальном положени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малярий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идящих комаров брюшко приложено к основанию, т. е. все тело параллельно осн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личинок из воды выступает конец дыхательной трубочки, а их тело образует с поверхностью воды всегда остры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zoom dir="in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лучше защититься от кома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е количество химических препаратов, отпугивающих насекомых -  репелленты. Королем репеллентов уже более 50 лет является диэтилтолуамид (ДЭТА, или D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ксикологи считают, что для малышей до 3 - 5 и даже 8 лет использование репеллентных средств недопусти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рекомендуется наносить репеллент на лицо: вместе с потом препарат может попасть в глаза и 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ледует наносить репелленты на участки тела, закрытые одеждой - это увеличит количество препарата, поглощаемого кож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ей лучше всего защищать противомоскитными сетками или наносить средство на одежду или препаратами с минимальных содержанием действующего вещества (6 -1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показаны репелленты также беременным женщинам и людям с заболеваниями ко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мещении лучшая защита от комаров — мелкие сетки на окнах, вентилятор, установленный у крова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пугивающим средством является электрофумиг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стро действует инсектецидный (уничтожающий) аэрозоль, однако увлекаться не стоит :аэрозоли – самые токсичные из средств. На время обработки помещений изолируйте ваших домашних питомцев, накройте аквариумы с рыбами, а сами обработав помещение, покиньте его на некоторое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omb dir="horz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чем комару пить кров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комара дает возможность пить кровь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 опасен комариный ук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чем комару пить кровь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6814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вь пьют самки комаров.()БЕЛКИ?() Самцы же питаются цветочным нектаром и соками раст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(УГЛЕВОДЫ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280" y="3860280"/>
            <a:ext cx="3319560" cy="218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37360" y="1409760"/>
            <a:ext cx="1714320" cy="11811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олько что родившиеся самки комара в яичниках начинают развиваться яички. В связи с этим у самок пробуждается и инстинкт, заставляющий их искать хозяина и напиться крови, необходимой для дозревания яичек.(брачный пери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889440"/>
          </a:xfrm>
          <a:prstGeom prst="rect">
            <a:avLst/>
          </a:prstGeom>
          <a:ln w="0">
            <a:noFill/>
          </a:ln>
        </p:spPr>
      </p:pic>
    </p:spTree>
  </p:cSld>
  <p:transition spd="med" advTm="0">
    <p:wheel spokes="8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вшись крови, отяжелевшие самки улетают в укрытия, где усваивают пищу и ждут, когда созреют яички. А потом уже остается подыскать удобное место для откладки 200 — 300 яичек, и цикл закон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529080" cy="3745080"/>
          </a:xfrm>
          <a:prstGeom prst="rect">
            <a:avLst/>
          </a:prstGeom>
          <a:ln w="0">
            <a:noFill/>
          </a:ln>
        </p:spPr>
      </p:pic>
    </p:spTree>
  </p:cSld>
  <p:transition spd="med" advTm="0"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комара дает возможность пить кр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товой орган комара имеет очень сложное строение. В нем можно различить все основные элементы ротового аппарата насекомых, но все они видоизменены и приспособлены для выполнения главной функции — сосания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укусе нижняя губа отдергивается, и в кожу проникают до этого скрытые парные мандибулы и максиллы, измененные в виде колющих щетинок челюсти, прокалывающие и пропиливающие путь для собственно сосущего элемента хоботка — непарной колющей щетинки (гипофаринкс) с каналом слюнных желез, и верхняя губа с желобком, по которому всасывается кровь. Свободно по бокам хоботка расположены щупа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самцов они такой же длины, как и хоботок, или даже чуть больше, причем в большинстве случаев последний их членик имеет колбовидную форму и густо покрыт волос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1280" y="981000"/>
            <a:ext cx="4475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юна комаров содержит белки, которые не дают крови свертываться и запускающие аллергически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97000" y="1268280"/>
            <a:ext cx="2265480" cy="4032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lus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м опасен комариный укус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475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ные аллергические реакции вплоть до анафилактического шока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санные укусы нагна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уют не прихлопывать комаров на себе, а стряхивать или сбивать щелчкам, организме комаров содержатся опасные для человека грибки, они могут попасть в организм человека через кожу, когда мы прихлопываем и размазываем ко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екций многих заразных болезней, вызываемых простейшими, бактериями, вирусами и даже черв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03800" y="1557360"/>
            <a:ext cx="2897280" cy="3600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новая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я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хорадка Де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тая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дно-нильская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цефа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 advTm="0">
    <p:wheel spokes="2"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3:31:49Z</dcterms:created>
  <dc:creator>07110</dc:creator>
  <dc:description/>
  <dc:language>en-US</dc:language>
  <cp:lastModifiedBy>Мася</cp:lastModifiedBy>
  <dcterms:modified xsi:type="dcterms:W3CDTF">2009-10-16T20:26:39Z</dcterms:modified>
  <cp:revision>7</cp:revision>
  <dc:subject/>
  <dc:title>Слайд 1</dc:title>
</cp:coreProperties>
</file>